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65A-14C1-4D94-B9D2-545202FD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FE1-869B-4841-B0E6-857E5B74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DC3-75CC-4EAA-AB60-371B6FEB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3C9-C967-4DE1-A11D-3619616B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644-6285-4886-A165-2503E69C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6CD-D1B3-44BC-BF24-E91F1368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832-D7A5-4D1B-AC57-E7E6F6A6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A8E-E799-40F2-83D5-92C58F46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58D-1C2C-4296-BAE9-8D35BF19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1A3-F6F2-4175-A800-F1DADDD4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EE9-3F3F-4161-AFA2-53CF693D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A3F-9D17-464E-8103-347A2D62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943E-C7D0-42A3-AEA3-AD0AA386B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1 Už prestaň sa rmút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ráp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estaň sa rmútiť a tráp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cestu ti zastiera t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ierou hľaď stále na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vetlo pre každého m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a Pána sa dí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ár jeho láskavú hľaď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y čierne mraky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a rozplynú,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vojím svetlom on stane sa rá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odrazil satanské zvo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ilu chce k boju nám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ty nad zlom zvíťazíš 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i tebe bude on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a Pána sa dí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ár jeho láskavú hľaď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y čierne mraky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a rozplynú,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vojím svetlom on stane sa rá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d tebou bdie neustále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len s dôverou hľaď k nebesám,</a:t>
            </a:r>
            <a:br>
              <a:rPr sz="47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aj iným to radostne hlásaj,</a:t>
            </a:r>
            <a:br>
              <a:rPr sz="47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že všetkých chce zachrániť Pá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a Pána sa dí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ár jeho láskavú hľaď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y čierne mraky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a rozplynú,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vojím svetlom on stane sa rád.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0:00:44Z</dcterms:modified>
  <cp:revision>20</cp:revision>
  <dc:subject/>
  <dc:title>Je veľký náš Pán, on slávy je Kráľ Nech do všetkých strán  spev vrúcnych znie chvál.</dc:title>
</cp:coreProperties>
</file>